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62F9-5981-4798-80C2-A1A7F0DCD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6A1A-4997-4311-9CE9-3B4CDE78EEC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A25-A1A2-4FBB-86C1-CD86504F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6A3-BE1F-47D7-9164-01EFB0C8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200-060A-4D51-A27C-DC784F6E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691-0F1B-45A4-B5FD-1F6504E8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485-BBFF-4519-9758-23B98393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E18-A8D3-406B-8258-6CC871B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E28A-6185-4D4A-9B3B-53BF4CB8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8426-132D-4C2C-972C-A383DEC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56D2-B9F3-4D76-BCE0-0C9A074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0F5-814A-4942-9731-FA322B9E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0CDD-A374-4DD4-BA40-EC2A3A6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C7D-5930-4EDA-88BA-1CF1FDD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9C1C-A2EF-43E4-BE8E-F926B48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A9FD-B742-4DEE-906B-03A3BBF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ECA5-E8E8-404A-AED9-B830A455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87B2-C73C-488F-99CE-CA81DAFF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5C83-E78A-48C2-9FA0-A72C8AE0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08513-2F29-4721-8F5C-33E39A8782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CBDB2-1C11-4F6F-B11D-75D6583204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19D91-9C67-4992-B69A-A7E39C63E3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AB18B-6998-4391-92BB-A34D6698C2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557D7-6CB7-4E90-A2B6-7BA550C64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783-B819-4425-B857-EEA7FD99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DB6D7-B23D-48E6-AEEA-83BC9EB33E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5F7A0-D588-4F28-895B-FA7D1DFC79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B72D4-9548-4A93-91AE-B45542FB3A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119FC4-7FE5-47BB-B28E-99910915B6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F5CDC-959D-4DA7-B766-453EAEC677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B9676-95F2-429A-B957-D18E7167B2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8FD67-677F-4DCC-BD66-A45042A09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843-1B74-4C66-A364-F186CF9C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D68-794C-4FBA-A81C-DF6942DD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D1E-9CB0-49B2-9344-06F603A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CE0-2AF1-4319-9304-021A2F0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A80-4D2F-49FB-8EB9-F631D74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534-E238-4023-AC2E-6549859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79A-23C9-4A77-BB39-B172850CE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CBCA-8E52-4A42-A09C-9E0A7C0E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080A-820A-47B8-BC98-BF402200E45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ФИЗИКАЛН</a:t>
            </a: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 ТЕРАПИЈА НА ОСНОВУ КЛИНИЧКЕ ЕВАЛУАЦИЈЕ ФУНКЦИЈА ЛОКОМОТОРНОГ АПАРАТ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зив физикална терапија потиче од грчке реч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“fysis” 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о у преводу значи “природна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нас се природни фактори ређе примењују, а углавном се користе вештачки извори физичких агенаса (вештачки добијена физичка енергиј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лна терапија се сматра методом лечења примарно заснованој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дејству дражи и реакцији организма на ту драж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CE38-5E67-4AB6-A3D7-1BB769C28C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Т представља пре  свега  </a:t>
            </a:r>
            <a:r>
              <a:rPr b="0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симптоматску  терапију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на  је  усмерена 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sr-CS" sz="2400" spc="-1" strike="noStrike" u="sng">
                <a:solidFill>
                  <a:srgbClr val="ff3300"/>
                </a:solidFill>
                <a:uFillTx/>
                <a:latin typeface="Tahoma"/>
              </a:rPr>
              <a:t>ублажавање постојећих симптома</a:t>
            </a:r>
            <a:r>
              <a:rPr b="0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 њени главни циљев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3300"/>
                </a:solidFill>
                <a:uFillTx/>
                <a:latin typeface="Tahoma"/>
              </a:rPr>
              <a:t>побољшање фун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BDF5-4DC6-46CF-A93F-3D2C9B09BE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Right Arrow 4"/>
          <p:cNvSpPr/>
          <p:nvPr/>
        </p:nvSpPr>
        <p:spPr>
          <a:xfrm>
            <a:off x="228600" y="3124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Right Arrow 5"/>
          <p:cNvSpPr/>
          <p:nvPr/>
        </p:nvSpPr>
        <p:spPr>
          <a:xfrm>
            <a:off x="304920" y="41911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ЗАДАЦИ ФИЗИКАЛНЕ 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или отклањање бол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локалне циркулациј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едема кроз ресорпцију и спречавање екстраваза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тиинфламаторно деловање код акутних запаљењ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окално повећање метаболизм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трофике, процеса репарације и регенерације ткив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еластичности меких ткив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CFD-BDF8-4400-8663-ADFA46E618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ЗАДАЦИ ФИЗИКАЛНЕ 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постављање функције одузетих нерав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стварања густог везивног ткива и ожиљк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и отклањање скраћења мишића и контрактур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а  реедукација  појединих  делова  локомоторног  апарата   посл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узетости или дужег инактивит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оординације покр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постављање аутоматизације и стереотипа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DE9-53A2-466E-91E2-BB7C21F94E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</a:rPr>
              <a:t>ФИЗИКАЛНА ТЕРАПИЈА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 интегрални део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ДИЦИНСКЕ РЕХАБИЛИТ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без које се не може замислити функционално оспособљавање физички онеспособљених особа за активности дневног животта (АДЖ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бољи резултати се постижу комбинованом применом процедура разних области физикална терап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A2C-B1BA-47CD-8606-E5A4F0F548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ма врсти физичког агенса који се користи, физикална терапија се дели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инезитерапија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ви се применом терапеутских вежби (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кинетичка енергија)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ла контракцијом скелетних мишића) ради очувања, успостављања, развијања и замене фунције локомоторног апара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лектротерапија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ви се применом разних врста 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електричне енергије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вид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лванске, нискофреквентне и високовреквентне струје у сврху леч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топлотна енергиј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оквир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дур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е и хладне диферентне зо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260-2E4A-4B7D-9A3F-0D0269A82B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ма врсти физичког агенса који се користи, физикална терапија се дели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от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користи вештачки добијену светлост у виду УВ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хемијска енергија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инфрацрвене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топлотна енергиј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он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азумева терапијску примену УЗ таласа високе фреквенције (84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3M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при чему делује на кожу и окожно ткиво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звучна енерг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механичка, топлот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дразумева спољну примену воде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топлотна и механичка енергија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свим агрегатним стањима у циљу леч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ели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светлосна енер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B5AD-73D6-40DB-8F3C-7C70F2AEE0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ма врсти физичког агенса који се користи, физикална терапија се дели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а пулзирајућих магнетних и електромагнетних поља високе и ниске фреквенције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електромагнетна енерг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купунктур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механичка енер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нуел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сажа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механичка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енер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ипербаричне и хипобаричне процедур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одразумевају деловање високог и ниског притиска (подпритиска) ваздуха на кожу и поткожно ткиво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механичка енерг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A61-366B-4B19-9C28-C2728FDA766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и агенси делују на кожу, а преко коже на друга ткива и орга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генси своје деловање остварују деловањем дражи на рецепторе у кожи, поткожном и мишићно-тетивном ткив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механорецепто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делују механичке дражи у окв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е (хидрокинетичке процедуре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саж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е терапије и сонотерапиј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 и хипербаричне процед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E770-E9AA-4F8C-BC3B-58244E7A32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терморецептор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реагују на топло и хладно) делују термичке дражи у окв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тотерапије (И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е (КТД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онотерап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F2D2-811F-412A-9B89-1BCE121A61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дмет носи 8  ЕСПБ бод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  часа предавања и 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аса вежб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Образовни циљ предме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40458c"/>
                </a:solidFill>
                <a:latin typeface="Tahoma"/>
              </a:rPr>
              <a:t>Упознавање са теоретским и практичним аспектима клиничке физикалне терапије и са начинима решавања најчешћих клиничких  проблема и потреба пацијената из области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ahoma"/>
              </a:rPr>
              <a:t>неуролошких обољења и повреда, као 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ahoma"/>
              </a:rPr>
              <a:t>повреда локомоторног апарата (костију и меких ткива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B088-F117-4A67-8884-EF896D6A9E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ноцицептор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реагују на хемијске супсанце ослобођене под дејтвом интензивних механичких, термичких, хемијских или електричних дражи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неуромишићна вретена у скелетомоторним мишићим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раегују на истезање екстрафузалних или конракцију интрафузалних мишићних влакана)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тетивна телашца – Голџ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реагују на повећање тензије у мишићима при контракцији)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и слободне нервне завршетке у зглобној капсули и лигаментима тзв проприоцепторе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елују терапеутске вежбе, одн кинестетичке дражи у оквиру Кх, хидротх, тх рад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FCD-98FC-42FF-84F0-217549BAB3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7720" y="19047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овањем дражи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на бројне рецепто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механорецепторе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терморецепторе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ноцицепто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неуромишићна вретена у скелетомоторним мишић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тетивна телашца –Голџи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слободне нервне завршетке у зглобној капсули и лигамен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4EFE-27F5-43AE-98CF-29B8B29738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кстероцептор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кстероцептори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дужени за пријем дражи(стимулуса) из спољашње среди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о су специјализоване структуре које се налазе у кожи као и у специјализованим чулним органима главеног регио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тектују електромагнетну, хемијску и механичку енергију из спољашње средине (укус хране, светлост, мирис, додир, звук, промене температуре површине тел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орецеп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рецеп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цицеп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8313-5CB5-45EC-BE77-3F01DFD64B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оприоцептор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приоцептори су рецептори смештени у зглобовима, мишићима, тетивама, лигамен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етљиви су на промене притиска и напет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обраде информација у ЦНС-у постајемо свесни свог положаја у просто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AB1-7F0C-4A64-BA4B-39EAF38FF9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ИНЕСТЕЗ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ин који се често спомиње као синоним проприоцепције је кинестез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ако је дефиниција кинестезије скоро идентична дефиницији проприоцепције код кинестезије се нагласак ставља н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кре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B42-ABC5-4520-BD61-8B4A475BA5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биолошке реакције долази под дејством различитих физикалних агенаса углавном је неспецифичног карактера и манифестује се локалним променама у кожи и другим ткивима и општим реакцијама организ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FA4-C0D8-4E61-8704-22BD50A0FA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Локална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реакција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рефлексна вазомоторна реакција у виду вазодилатације, типа активне хиперемиј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нтра и екстрацелуларне промене концентрације јо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омене поларитета мембран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биоелектричне ефекте промене мембранског потенциј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оцеси биосинтезе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63CD-B34F-4391-A906-F3F68D9ADB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Локална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реакција сегмента локомоторног апарата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оже да се у виду консензуалне реакције хуморалним и рефлексим путем проширити на већа подручја коже, друга ткива и орга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 процедурама ктх, хидроктх и масаже долаз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локалних промена у мишићима, тетивама, периосту, лигаментима и зглобним чаурама, у смислу боље прокрвљености и трофик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з побољшање тонуса мишић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већане еластичности меких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E48-E8F0-4507-813E-D24F62417C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Деловање на унутрашње орг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ко кутановисцералних рефлекса физичким агенсима се може деловати и на унутрашње орга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срц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плу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гастроинтестинални трак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уринарни систем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гениталне органе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8A9-45AB-45A3-B0FF-AC8431438F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Биолошка  реакција  до  које  долази  под  дејством  различитих  физичких агенаса, углавном је 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еспецифичног карактер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и  манифестује  се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6800" indent="-331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локалним променама у кожи и другим ткивим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6800" indent="-331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пштим реакцијама организма.</a:t>
            </a:r>
            <a:r>
              <a:rPr b="0" lang="sr-C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Реакција зависи од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рсте примењене енерг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јања и интензитета деловања физичког агенс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ста деловањ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реактивних способности организ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4040" indent="-4640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6F4-4E7D-4D2C-A0EA-065246DB7A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грам обухвата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сновна знања о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ребна за планирање и спровођење клини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е фи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калне терапије болесника са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неуролошким обољењима и повредам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ериферних нерава, централног нервног система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923-F21C-4454-B37A-F252CA4770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ТРАЈАЊЕ ТРЕТМА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380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нављање једне дражи која се користи у ФТ, доводи до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привикавања  на ту дра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а то се  дешава  приликом  дуготрајних  серија  физиотрапијских процеду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викавање ткива на драж, изражава се смањењем фреквенције импулса који  настају  при  деловању  дражи  истог  интензитета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јава привикавања на драж  јавља  се  на  свим  врстама  рецептора,  осим  на ноцицепторима (рецептори за бол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тога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рој  процедура  ФТ  треба  у једној серији ограничити на 10-15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а између појединих серија потребне  су паузе од 1-2 недељ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352-913F-4E7C-968B-6D591CED10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Основни принципи у прописивању физикалних агенаса</a:t>
            </a:r>
            <a:r>
              <a:rPr b="1" lang="sr-Latn-CS" sz="28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ограм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астављат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индивидуално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ако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етаљног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еглед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болесник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ограм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адрж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виш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3-4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роцедур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!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ако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дређеног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време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треба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мењат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в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оцедур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сим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кинез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идрокинезитерапиј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86A-10C9-4213-BB99-324F856018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ФИЗИОТЕРАПЕУТСКИ ПРЕГЛЕД ПАЦИЈЕНТ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(неуролошки, трауматолошки, реуматолошки болесници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и статус од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ED8E-C1E6-42E5-A87C-35811E59DD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зглобова и кичм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коже 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мишић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покрета зглобова и кичм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тала кинезиолошка мерењ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у ход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ирање активности дневн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6F21-AA0A-477F-BF7D-CEC2F9BF84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ЕГЛЕД ЗГЛОБОВ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увек почиње инспекцијом, а наставља се палпацијом и испитивањем покретљивости, односно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720E-394A-4293-AA5D-96724BF2E2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И ФИЗИКАЛНИ ЗНАЦИ ЗАПАЉЕЊ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ртритис означава постојање запаљења у самоме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ило која зглобна структура може бити захваћена упал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раз артритис употребљава се само за афекцију хрскавице или суопхондралне кости или обоје са синовитисом или без њег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ол инфламаторног карактера- бол у ми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87C2-BF6F-4CA2-9B1A-768B502FD0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И ФИЗИКАЛНИ ЗНАЦИ ЗАПАЉЕЊ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4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су знакови синовитиса зглоб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на ос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ост покрета и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98E8-D43D-4C93-A2C3-7381CDE084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ток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 зглоба настаје због интраартикуларног излива, задебљања синовијалне овојнице, упале периартикуларног везивног ткива (бурзе, тетиве,тетивне овојнице), коштаних изданака или изванзглобних масних јастуч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нспекцијом и палпац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A705-E992-46BC-8062-334353C2F3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Болна осетљивос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Палпациј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 одређу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присутност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локализација болне осетљив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0A2-DF71-45CC-B316-728D3F5A2D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Студент треба да савлада следеће вештине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сновне технике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клиничког прегледа неуролошких и трауматолошких болесник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сновне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физиотерапеутске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техн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познавање и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дијагностика најчешћих неуролошких и трауматолошких клиничких ентитет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Избор физикалних агенаса и њихова апликација у зависности од врсте обољења периферног и централног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Контраиндикације за примену физикалних агена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AC4-CE74-4274-87AC-D823217770F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бим покре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ост покрета прати већину болести зглоб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9626-3D9F-4D5E-9803-8039B6D805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бим покре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ње покрета може се односити на активни и пасивни покре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тога се мери обим активног и пасивног покр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083B-4BE6-4059-ACBA-91EBD844C5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стали важни физикални знаков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друге важне физикалне знакове спада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еп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мене боје коже изнад захваћ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ишена температура коже подручја зглоб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588-BFAA-403C-9671-BDB7896E5A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ЕГЛЕД КОЖЕ И ПОТКОЖНОГ ТКИВ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им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инспекциј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кожу треба прегледати користећи с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алпацијом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C2D9-054E-415B-84CC-4DCA6B3266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ЕГЛЕД МИШИЋ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спекцијом се уочавају трофичке промене, фасцикулације и фибрилације, а прегледом тонус, мобилност, контрактилност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840-EA11-4C1C-B87B-71684E1D69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рење обима покр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покрета начин је прецизне оцене зглобне функ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личина обима покрета зглоба одређена је његовом анатомском грађом, конституцијом, испитаниковог узраста, спортском активношћу, и професионалном активношћ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обим покрета могу утицати умор и доба дана мер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034-3738-4DA4-9390-86A9327FFA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ава за мерење обима покрета зглоба назива се „угломер“ или „гониометар“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бивене вредности се узражавају у степен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F29F-90CC-4CB9-AB0A-BD324AC0CC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 основу резулта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и  зглоб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ерапеут 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познаје са тренутном покретљивошћу у том зглоб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статује одступања од нормалних вредност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ролише успешност третмана у процесу оспособљавања пациј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727-FEE2-408D-AFA9-E2D6D4B9DD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 би вршио мерење обима покрета у одређеном зглоб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опходно 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еут познаје функцију и особине зглоба,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његове могућности у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саним телесним равн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д значаја да терапеут постави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цијента у одговарајући положај и да води рачуна о положају суседних сегменат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3BF6-6538-4E73-B8CD-D21EFB489E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 неког пацијента у одређеном зглобу може одступати од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рмалних вредности у позитивном или негативном смер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 већу од нормалне називамо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хиперпокретљивошћ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лакситет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ња покретљивости у неком зглобу називамо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контрактурама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F1B3-8BBF-4E05-BAE2-FB4B926AA3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ahoma"/>
              </a:rPr>
              <a:t>Модул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1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И ТРЕТМАН ЛЕЗИЈА ПЕРИФЕРНОГ НЕРВНОГ СИСТЕМА  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- 2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И ТРЕТМАН ЛЕЗИЈА ЦЕНТРАЛНОГ  НЕРВНОГ СИСТЕМА  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- 1,5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А ТЕРАПИЈА  ПОВРЕДА МЕКИХ ТКИВА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(1,2,3) 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1,5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А ТЕРАПИЈА  ПОСЛЕ ПРЕЛОМА КОСТИЈУ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(1,2,3) 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1,8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А ТЕРАПИЈА  ПОСЛЕ УГРАДНЈЕ ЕНДОПРОТЕЗЕ ЗГЛОБА И КОНТРАКТУРА ЗГЛОБОВА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(1,2)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1,2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0747-AF2D-4329-AF4E-4DDD4A6863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ре дужине екстремит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 дужине или лонгитудиналне мере екстремитета или појединих њихових делов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рцијална и тоталн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жи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 ГЕ и 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5A9-C11F-4A12-9EA1-D6283E6494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рење обима екстремит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80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а обима места на екстремитетима једноставан су и врло користан начин мерења величине отока или задебљања зглобова и стања трофике тј. развијености мишића на екстремите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50CA-577F-44FF-857C-46A56868CD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ерење обима екстремит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 одређује се ст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е с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ши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лежећем положају с релаксираним мишић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9DD7-9C21-4BA1-8A43-AAE6FBAF9A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клиничкој се пракси за оцену стања појединих мишића или мишићних група спроводи се мерење снаге, и то мануелним тестом или динамометриј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ма мануелном мишићном тесту оцене за снагу мишића су од 0 до 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708-FFA5-4C97-8154-35E01ACB20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ва оцена говори да нема мишићне активн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1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током вољне активности појављује се мишићна контракција у трагу, а што се може визуелно или палпацијом одреди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2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шић је способан да савлада пун обим покрета у зглобу када је искључена земљина тежа (помоћу суспензије). Мишић практично савлађује само отпор трења у зглоб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13B-228B-47BA-89BD-2572A4CCD3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3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шићном контракцијом могуће је савладати пун обим покрета без искључења земљине те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мишићна контракција као и код оцене 3 савлађује пун обим покрета уз додатни напор који терапеут пружа путем мануелног контра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5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показује да мишић може савладати пун обим покрета уз максимални отпор који мануелно пружа терапеу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5843-824B-4BAC-8A0B-C48CD32D3CB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шићни тест представља једну клинички оправдану методу и има својих предности које се састоје из следећег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се радити и у установи и код кућ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изискује посебну апаратур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дноставан је за извођ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замара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је релевантне објективне подат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ужа увид у ефекте правилне кинезитерапије или обрнуто, а што нам омогућава благовремено кориговање 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е: субјективна проц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915-8945-4B01-85A8-7F2EC51D98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Right Arrow 4"/>
          <p:cNvSpPr/>
          <p:nvPr/>
        </p:nvSpPr>
        <p:spPr>
          <a:xfrm>
            <a:off x="457200" y="617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оцена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а анализа хода припада рутинском клиничком прегледу болесника са променама на локомоторном апарат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олошки процес лоциран у појединим структурним деловима узрокује асиметрични абнормални ход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5584-ADFC-46FA-9A51-6D3ED81161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оцена активности дневног живо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жно је испитати начине обављања болесникових дневних активности (самостално или уз помоћ других лица, помагал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 спада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у кревету (окретање, сједење, лежање, руковање јастуцима, постељином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у самозбрињавању (одржавање личне хигијене, активности храњења, активности облачења 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лачења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личите ручне активности, активности ходања, устајања, седењ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путовањ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помагалима (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штап, штака, ходалица, колица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4550-E557-4206-BBF0-4F9996D5FD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Начин полагања испита и оцењив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7E51-4B34-4F8E-BECA-46B0F8EF45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52280" y="1600200"/>
          <a:ext cx="8839440" cy="5257800"/>
        </p:xfrm>
        <a:graphic>
          <a:graphicData uri="http://schemas.openxmlformats.org/drawingml/2006/table">
            <a:tbl>
              <a:tblPr/>
              <a:tblGrid>
                <a:gridCol w="2557440"/>
                <a:gridCol w="1862280"/>
                <a:gridCol w="2209680"/>
                <a:gridCol w="2210040"/>
              </a:tblGrid>
              <a:tr h="693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а  знања (максимални број поена 100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8720">
                      <a:solidFill>
                        <a:srgbClr val="40458c"/>
                      </a:solidFill>
                    </a:lnB>
                    <a:solidFill>
                      <a:srgbClr val="ecd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 u="sng">
                          <a:solidFill>
                            <a:srgbClr val="000514"/>
                          </a:solidFill>
                          <a:uFillTx/>
                          <a:latin typeface="Times New Roman"/>
                          <a:ea typeface="Times New Roman"/>
                        </a:rPr>
                        <a:t>Предиспитне обавез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 u="sng">
                          <a:solidFill>
                            <a:srgbClr val="000514"/>
                          </a:solidFill>
                          <a:uFillTx/>
                          <a:latin typeface="Times New Roman"/>
                          <a:ea typeface="Times New Roman"/>
                        </a:rPr>
                        <a:t>Завршни испит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активност у току предавања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Практични део испита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1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практична настава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усмени испит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тестови (колоквијуми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је део физикалне медицине која се бави применом физичких агенса у сврх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тафилаксе (спречавање погоршања и рецидива болест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цинске 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40C-AF30-4C15-B725-C87B80B535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Right Arrow 4"/>
          <p:cNvSpPr/>
          <p:nvPr/>
        </p:nvSpPr>
        <p:spPr>
          <a:xfrm>
            <a:off x="228600" y="19051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 физикалном терапијом подразумева се терапијско деловање разних физичких агенаса, који се примењују углавном преко ко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и агенси делују у виду физиолошких дражи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роцептор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тиса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приоцептор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локалних и и осталих реакција на организма, које доводе до успостављања нормалних физиолошких усл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3D57-7163-4D50-B991-64A903190E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5:38:14Z</dcterms:modified>
  <cp:revision>1041</cp:revision>
  <dc:subject/>
  <dc:title>Rehabilitacija traumatoloških bolesnika</dc:title>
</cp:coreProperties>
</file>